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jpeg" ContentType="image/jpeg"/>
  <Override PartName="/ppt/media/image7.png" ContentType="image/png"/>
  <Override PartName="/ppt/media/image11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BC5A-1FE5-489A-B0C8-C03D9AF0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A7CA-5B0A-4070-9C57-B36520C1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7219-D93C-492B-8DCF-906BDECB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8E47-EAA9-4AAB-A359-15BD8BAF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1C6E-CD02-4AE4-9647-B063A5BD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99A3-3678-4607-83F4-7FEF5979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543E-BE9F-43CB-AF8C-9BAEDF95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EF66-FCDC-479F-A95A-DEE7D04A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831E-720F-4DE1-A326-4A19FAFC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022B-1248-4E65-AEB1-03FE003D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BC37-1DA6-4303-8676-B3D6F342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7C6-558A-4C3E-93C5-8A69AAD3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3372-8F88-44F1-B7A7-C0B9CB0C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3DDA-D13C-4784-AA5E-063AD2E4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3962-92D7-443D-9F9C-C9315BEA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3678-662C-4E85-A93D-302B8318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6B65-CACD-4877-9BEE-5C753DE9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423B2-CD90-4379-99BC-0CDE23F0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91EF6-8A49-41C4-829E-02077F70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EF4BA-E3E5-4A5F-86AA-A9BD91D5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FD484-D9EF-4311-9B43-3600481F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63EB9-7AAF-4680-ACD4-60F1197A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A3D3-9899-4E34-8391-5DF92E6B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994E6-9B75-4888-A094-F467586D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C6BD8-9ADD-4FE2-B29C-CD6B22B4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07407-A2FB-436F-BD50-7A902CB3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C5F8B-E085-4245-B24B-775C6525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E3E9E-FB9F-4D49-937F-F79F0037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773D7-9791-4871-A4B9-FFF33CEA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E2982-7E19-487D-A683-12E72383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9C69D-0E45-41F1-A9A6-8BE08631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ED8A9-E5E6-4316-91A7-E535B9C8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93C6F-C930-4F95-B01B-3119969A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F7EB-6015-4A95-A9A6-A20E55E8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B7391-AAC3-4D6E-A8CD-92ED2986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0F038-B2DC-48F8-A40D-B3ABEC85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97ACE-D871-4796-8670-B0F3B050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20030-CB60-4C21-B19F-BA44A5C2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E5A19-B46C-4BDE-A3D0-5F453F04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EBCF4-61A5-4D8F-B4A5-8DC3EB2F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7FF3C-BDFA-4BEE-850A-31E4D63D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3C94C-82E7-4361-A1D3-0E912937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EF21F-14E4-480E-8D78-88110474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3481-DD40-4F90-9E90-45A6536F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8154-3430-4916-BD9B-6EB8E63C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D0AB-97D4-41F7-9DBC-5E6BC601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0FDA-DC81-488A-BEFC-97132214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66A-9E9A-4953-AFDB-BD249DEE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689A-C31F-446C-8CB4-9C1A994E9F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E8A9-C80E-4CF8-860B-A43D2A74093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BFE3-D595-4E2B-A79C-B9864EC7AF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356B-27EC-4CCF-B29B-18B1ECA6C91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MP900439539[1]"/>
          <p:cNvPicPr/>
          <p:nvPr/>
        </p:nvPicPr>
        <p:blipFill>
          <a:blip r:embed="rId1"/>
          <a:stretch/>
        </p:blipFill>
        <p:spPr>
          <a:xfrm>
            <a:off x="228600" y="-1447920"/>
            <a:ext cx="8686800" cy="102110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6324480" y="2133720"/>
            <a:ext cx="2819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ra de Limba Roman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1219320" y="25909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Litera si sunetu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folog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ubRRectCallout"/>
          <p:cNvSpPr/>
          <p:nvPr/>
        </p:nvSpPr>
        <p:spPr>
          <a:xfrm>
            <a:off x="609480" y="1219320"/>
            <a:ext cx="7010640" cy="3047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685800" y="533520"/>
            <a:ext cx="685800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5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Care este diferenta dintre o LITERA si un SUNET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0" descr="meditatii_elevi"/>
          <p:cNvPicPr/>
          <p:nvPr/>
        </p:nvPicPr>
        <p:blipFill>
          <a:blip r:embed="rId1"/>
          <a:stretch/>
        </p:blipFill>
        <p:spPr>
          <a:xfrm>
            <a:off x="3657600" y="4038480"/>
            <a:ext cx="4343400" cy="26607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838080" y="3049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 dintre elevi intreaba adeseor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83059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533520" y="10666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e este scopul acestul materi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533520" y="1981080"/>
            <a:ext cx="426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PUL nostru este de a reduce, sau chiar a elimina numarul de elevi ce nu pot, sau nu stiu sa deosebeasca LITERA de SU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7" descr="MC900439407[1]"/>
          <p:cNvPicPr/>
          <p:nvPr/>
        </p:nvPicPr>
        <p:blipFill>
          <a:blip r:embed="rId1"/>
          <a:stretch/>
        </p:blipFill>
        <p:spPr>
          <a:xfrm>
            <a:off x="4419720" y="1676520"/>
            <a:ext cx="4473360" cy="4819680"/>
          </a:xfrm>
          <a:prstGeom prst="rect">
            <a:avLst/>
          </a:prstGeom>
          <a:ln w="0">
            <a:noFill/>
          </a:ln>
        </p:spPr>
      </p:pic>
      <p:pic>
        <p:nvPicPr>
          <p:cNvPr id="184" name="TextBox 4" descr=""/>
          <p:cNvPicPr/>
          <p:nvPr/>
        </p:nvPicPr>
        <p:blipFill>
          <a:blip r:embed="rId2"/>
          <a:stretch/>
        </p:blipFill>
        <p:spPr>
          <a:xfrm>
            <a:off x="2109960" y="-895320"/>
            <a:ext cx="4844880" cy="31687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762120" y="1066680"/>
            <a:ext cx="4572000" cy="46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0"/>
          <p:cNvSpPr/>
          <p:nvPr/>
        </p:nvSpPr>
        <p:spPr>
          <a:xfrm>
            <a:off x="457200" y="1981080"/>
            <a:ext cx="411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e semnul grafic din alfabetul unei limbi, care corespunde, in general, unui sunet al limbii resp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1" descr="MC900439512[2]"/>
          <p:cNvPicPr/>
          <p:nvPr/>
        </p:nvPicPr>
        <p:blipFill>
          <a:blip r:embed="rId1"/>
          <a:stretch/>
        </p:blipFill>
        <p:spPr>
          <a:xfrm>
            <a:off x="3733920" y="2514600"/>
            <a:ext cx="5715000" cy="7086600"/>
          </a:xfrm>
          <a:prstGeom prst="rect">
            <a:avLst/>
          </a:prstGeom>
          <a:ln w="0">
            <a:noFill/>
          </a:ln>
        </p:spPr>
      </p:pic>
      <p:pic>
        <p:nvPicPr>
          <p:cNvPr id="188" name="TextBox 4" descr=""/>
          <p:cNvPicPr/>
          <p:nvPr/>
        </p:nvPicPr>
        <p:blipFill>
          <a:blip r:embed="rId2"/>
          <a:stretch/>
        </p:blipFill>
        <p:spPr>
          <a:xfrm>
            <a:off x="3108240" y="-920880"/>
            <a:ext cx="3043440" cy="32990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304920" y="2819520"/>
            <a:ext cx="4495680" cy="228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O definitie mai scurt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,,</a:t>
            </a:r>
            <a:r>
              <a:rPr b="1" i="1" lang="en-US" sz="30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Sunetul</a:t>
            </a:r>
            <a:r>
              <a:rPr b="0" lang="en-US" sz="30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 este reprezentarea sonora a literelor.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Rectangle 5" descr=""/>
          <p:cNvPicPr/>
          <p:nvPr/>
        </p:nvPicPr>
        <p:blipFill>
          <a:blip r:embed="rId3"/>
          <a:stretch/>
        </p:blipFill>
        <p:spPr>
          <a:xfrm>
            <a:off x="176040" y="1536840"/>
            <a:ext cx="9126720" cy="14554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j0301252"/>
          <p:cNvPicPr/>
          <p:nvPr/>
        </p:nvPicPr>
        <p:blipFill>
          <a:blip r:embed="rId1"/>
          <a:stretch/>
        </p:blipFill>
        <p:spPr>
          <a:xfrm>
            <a:off x="-533520" y="380880"/>
            <a:ext cx="7848720" cy="67122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"/>
          <p:cNvSpPr/>
          <p:nvPr/>
        </p:nvSpPr>
        <p:spPr>
          <a:xfrm>
            <a:off x="3429000" y="22860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ru a le raspunde elevilor la intrebare si a-i lamuri cu privinta la LITERE si SUNETE, am extras o concluzie din aceasta prezent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0" y="12952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 o legatura intre 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oarece LITERA 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0" y="19051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iem, iar cu ajuto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0" y="22096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ETULUI pronun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838080" y="2514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 litera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0" y="9144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TER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ETU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5276880"/>
            <a:ext cx="25146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terial realizat de catre       elevele clsasei a VI-a 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oana Cosma si Alina Stoi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n Scoala cu clasele I-VIII N.I. JILINSCHI Verne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3:45:53Z</dcterms:created>
  <dc:creator>ddd</dc:creator>
  <dc:description/>
  <dc:language>en-US</dc:language>
  <cp:lastModifiedBy>Marius</cp:lastModifiedBy>
  <dcterms:modified xsi:type="dcterms:W3CDTF">2010-10-06T08:07:29Z</dcterms:modified>
  <cp:revision>20</cp:revision>
  <dc:subject/>
  <dc:title>Slide 1</dc:title>
</cp:coreProperties>
</file>